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AF4-0AB7-4AD8-A2D1-FF5EB619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990-8EF9-4277-AD60-4BCC61C7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2D13-E2D4-40F7-88F6-D931292B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B19-7F9B-440B-B986-05215F9C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DADDD-6AE1-40A0-98BE-922A444A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3BD19-149F-4287-9C2B-F9228121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7E6C0-D666-4170-9154-3B2326C6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A8EAB-7ACC-45A4-AB87-4504A9A5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684BC-2B89-4E99-8C2D-F8BE5F7D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E82F6-FE5D-4EE5-A332-61876A6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FB959-85B3-4124-932C-3A913375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CEB-E9A2-40DD-AA5E-1FE5D66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70AF3-417A-4E57-AAE4-8447CA51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882F0-2BA4-4815-AE66-79FBE4E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90713-8B5A-43EC-8A07-989EEEDC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C2816-2288-499F-B274-83B37593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4F05F-F7BA-4218-8DCB-E5686F60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73C-697D-4A89-817F-B9510CEE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3C9-7DC5-4049-8FE5-0B7A5D6A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E4B0-4EA6-4229-ACDC-3B650477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0B9-CF02-4FCA-9AC2-4D5A14F7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2D6-A925-4DDD-A373-091E6862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BAE-6A04-4DAC-B5D3-AC1D2B3B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B2C-E945-4453-A4BE-7FF69964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0E24-89A6-4EE4-9853-92E62F444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7A3-56A6-40F8-B22A-1A38EB89B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rculanum"/>
              </a:rPr>
              <a:t>Safety T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5181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for warning sire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out of the ocean as fast as you c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to news or radi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re in school you need to go with a tea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to higher floor or higher l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unami’s can occur at day and n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658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rps.psu.edu/probing/tsunami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Sir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6553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connect.in.com/tsunami-warning/images-tsunami-warning-system--1-257804088463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2:41Z</dcterms:created>
  <dc:creator>D83  User</dc:creator>
  <dc:description/>
  <dc:language>en-US</dc:language>
  <cp:lastModifiedBy>D83  User</cp:lastModifiedBy>
  <dcterms:modified xsi:type="dcterms:W3CDTF">2010-10-25T15:17:51Z</dcterms:modified>
  <cp:revision>7</cp:revision>
  <dc:subject/>
  <dc:title>PowerPoint Presentation</dc:title>
</cp:coreProperties>
</file>